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5A8-E00D-462D-BBF7-5F11E331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EC29-2B32-42F7-93CB-313162A7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7B5-5181-4561-94AB-DFB6846D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8286-6AF9-4B95-9A51-0C607445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A393-CF19-4886-B70A-748BB77F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483-FE83-4255-8BB4-61B51B72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4F46-0C39-4A08-B602-5572DC27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DE9A-4AE1-436F-A626-1D3F8498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EE08-9628-40B2-BA36-AE12BB509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412-93E0-4536-94BF-9E95512B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DE85-6845-4924-A7C1-0D27AD8D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E5EB-2E13-4315-8882-C590942A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E3E-C172-40AF-8453-5718F96B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4D9-5F50-48DD-AD72-32E5AEF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F9D-1078-439B-821B-AECFE71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58-DBFD-48DA-8AC7-A8C65C46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1CA-9C43-41FA-8F81-8D3C2DA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251-5D3A-439E-BDCA-2CAA0FD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989-FED8-4F67-AE2A-69409EB5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066-6B69-43BD-8AE0-C2D2279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429-97C5-416F-8951-AE89EAD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1DE-AE11-4503-9F53-0BE5F51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574-35C0-4ECF-AB5C-06390CF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BA9-C58F-481A-94DD-946CA4B6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7D3C-2FFD-4DF8-B33E-CB724435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Performance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When students try to solve real-life problems, they see the relevance of schoolwork and are more likely to transfer the content and skills they learn in class by applying them to real problems or challeng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 Burke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(s) you will be address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use case studies of individual explorers to compare the goals, obstacles, motivations, and consequences for European exploration and colonization of the Amer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79404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The image “http://www.mce.k12tn.net/explorers/columbus_ships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00760" y="1905120"/>
            <a:ext cx="333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(s) students will be me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ive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different explorers impacted our world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09896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355760" y="3922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http://stillfootball.files.wordpress.com/2007/07/columbus.jpg"/>
          <p:cNvPicPr/>
          <p:nvPr/>
        </p:nvPicPr>
        <p:blipFill>
          <a:blip r:embed="rId1"/>
          <a:stretch/>
        </p:blipFill>
        <p:spPr>
          <a:xfrm rot="808800">
            <a:off x="3733920" y="3657600"/>
            <a:ext cx="2182680" cy="2857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44038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The image “http://mclean.usd259.org/smith/links/explorers/champlain/champlain.gif” cannot be displayed, because it contains errors."/>
          <p:cNvPicPr/>
          <p:nvPr/>
        </p:nvPicPr>
        <p:blipFill>
          <a:blip r:embed="rId2"/>
          <a:stretch/>
        </p:blipFill>
        <p:spPr>
          <a:xfrm rot="21315600">
            <a:off x="5638320" y="1676520"/>
            <a:ext cx="2578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PowerPoint about their assigned explorer using graphics and tex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PowerPoint to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www.arrl.org/news/stories/2006/08/24/2/ARISS-Devonport-2-lrg.jpg"/>
          <p:cNvPicPr/>
          <p:nvPr/>
        </p:nvPicPr>
        <p:blipFill>
          <a:blip r:embed="rId1"/>
          <a:stretch/>
        </p:blipFill>
        <p:spPr>
          <a:xfrm>
            <a:off x="4676760" y="1676520"/>
            <a:ext cx="3857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present their PowerPoint to a panel of judges.  Students must prove to the judges why their explorer should win the “Explorer of the Century” A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70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www.kids-birthday-party-guide.com/images/american-idol-judges.jpg"/>
          <p:cNvPicPr/>
          <p:nvPr/>
        </p:nvPicPr>
        <p:blipFill>
          <a:blip r:embed="rId1"/>
          <a:stretch/>
        </p:blipFill>
        <p:spPr>
          <a:xfrm>
            <a:off x="2133720" y="3657600"/>
            <a:ext cx="472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eeks of Social Studi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j04348040000[1]"/>
          <p:cNvPicPr/>
          <p:nvPr/>
        </p:nvPicPr>
        <p:blipFill>
          <a:blip r:embed="rId1"/>
          <a:stretch/>
        </p:blipFill>
        <p:spPr>
          <a:xfrm>
            <a:off x="312408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, parents, panel of judges, students in the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The image “http://www.studyzone.org/testprep/ela4/g/audience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819520" y="2895480"/>
            <a:ext cx="36860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formance Tas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(s) you will b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 you will b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699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Cj04347130000[1]"/>
          <p:cNvPicPr/>
          <p:nvPr/>
        </p:nvPicPr>
        <p:blipFill>
          <a:blip r:embed="rId1"/>
          <a:stretch/>
        </p:blipFill>
        <p:spPr>
          <a:xfrm>
            <a:off x="6553080" y="2666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the Student Dire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hat motivate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the fina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statement o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hoolwork is authentic &amp; relevant, students engage in their learning &amp; become active participants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pg. 67-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hat a performance task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4 reasons why performance tasks are good for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characteristics of good 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ternative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ethod that differs from paper/penci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, exhibitions, oral presentations, experiments, portfolios, interviews,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800600" y="379260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thentic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of a student’s ability to perform a real world/real lif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lan, construct, &amp; deliver an original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ward of the evaluating criteria/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formance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bserves &amp; makes a judgment about a student’s demonstration of a skill/compe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student’s ability to perform a task by producing their own work with their knowledge &amp;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aracteristics of Performance Assess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erform, create, construct, produce, or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understanding and/or reasoning skills are needed &amp; ass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sustain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explain, justify, de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es on teacher judgment for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evaluative criteria/standards are requir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specified qualit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single “correct”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uthentic, performance is grounded in real world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rengths of Performance Assess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ssessment wit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ccurs during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formative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s to be more authe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engaged &amp; active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ways for students to show knowledge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reason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ablish specific evalua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lf-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-examine their instruc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 do you use performance assessment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demonstrate a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generate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ssignments where students use knowledg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formance Task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(s) you will b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 you will b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students “do” to demonstrate their gained knowledge, understanding, and ski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it authentic or real to the students?  How does it connect to their real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9"/>
          <p:cNvSpPr/>
          <p:nvPr/>
        </p:nvSpPr>
        <p:spPr>
          <a:xfrm>
            <a:off x="56991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0" descr="MCj04347130000[1]"/>
          <p:cNvPicPr/>
          <p:nvPr/>
        </p:nvPicPr>
        <p:blipFill>
          <a:blip r:embed="rId1"/>
          <a:stretch/>
        </p:blipFill>
        <p:spPr>
          <a:xfrm>
            <a:off x="6553080" y="2666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5:29:37Z</dcterms:created>
  <dc:creator> </dc:creator>
  <dc:description/>
  <dc:language>en-US</dc:language>
  <cp:lastModifiedBy>EMU User</cp:lastModifiedBy>
  <dcterms:modified xsi:type="dcterms:W3CDTF">2011-03-28T10:22:45Z</dcterms:modified>
  <cp:revision>7</cp:revision>
  <dc:subject/>
  <dc:title>Creating Performance Assessments </dc:title>
</cp:coreProperties>
</file>